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B6FF0-D570-4B8E-8AAA-D6B2D63A44C8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287A3-79A3-4232-84C0-6BF3EF54A8AF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B9AF0-B9C0-444C-8F9A-8EF3623F22D6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1C341-9121-4E0F-86FB-F2F0933E101A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794A-060C-4CC0-9353-9CC9E6D9C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C71C-876D-443E-8E6C-9BD577ABC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8C1F-FB20-408E-A64D-B47905AB8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1133-8BD5-49F9-B257-BCD4279CB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A2953-0DB4-45AF-AB57-9FD0E48D6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31058-EAC6-4F44-B194-CA4B03DD6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09363-DF72-49D3-BB98-B970F23CC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FCA52-FE37-42AB-AB97-31FDD3C03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424B6-D1A1-4641-877D-F5C4151FC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826A6-9EEA-4FE8-93A4-79EA0667A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B13D4-278D-4480-B82A-31B3F7234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C7E1B-35C1-4A46-956E-AFBEF002B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DD8D3-AAD9-4ACB-864E-5FD49E60F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8A76D-F78B-4DDC-8571-23283D3A4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311C2-BC89-4D65-A5B7-661FDA932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EA1EF-349E-49FE-AD9A-66B7392E3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1536F-6D6A-4A5C-B752-A90422D9D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5A6EB-56C1-4BA6-BF3F-B1E3006E0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B1426-FA85-41EF-BB66-84476D60E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8DF39-714B-4F82-86DA-4C076DD39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0949B-C365-48E9-A641-B4146816D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5ECBF-4568-4635-B940-31386FC92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6C202-8ACF-440E-8291-5ADE0CAFB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79950-49DB-4A51-A9D7-CE417D8B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2A25A-53A8-476A-9754-EB2FE55C4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12706-B658-4C20-BD90-15679E300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7ECF4-8402-45A7-B71E-157476B48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D5F31-303D-46E9-8247-8D36FA9F4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667C-4990-4CDB-A207-5F5D8F3B5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0116-6D2A-425F-8F5D-688E242DA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8315-06B4-497D-A82B-9BDB1BCB0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B41A-82F7-4837-A53E-DB6DEB719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A4A1-E57A-497B-AEB4-88AABA59B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282F-8CFE-4CAC-9915-2CE64E79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1923-7C08-4609-8CF0-F162C71CD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CA7D-2315-4086-A786-C23A0584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AA3B1-7E46-482D-A71C-FCFB818FDE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2e75b6"/>
              </a:gs>
              <a:gs pos="100000">
                <a:srgbClr val="9dc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65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e7e6e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e7e6e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12CD7-98D4-4EF5-AA79-ED9AD2CF50B7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2C117-56CA-4701-B86F-BFA9B84538D1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07880" y="1212840"/>
            <a:ext cx="616608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Ureditev kohezijske politike v Republiki Sloveniji v programskem obdobju 2014–2020 za cilj "naložbe za rast in delovna mesta"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0" name="TextBox 2"/>
          <p:cNvSpPr/>
          <p:nvPr/>
        </p:nvSpPr>
        <p:spPr>
          <a:xfrm>
            <a:off x="3490920" y="444672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Brdo, 25.3.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 txBox="1"/>
          <p:nvPr/>
        </p:nvSpPr>
        <p:spPr>
          <a:xfrm>
            <a:off x="260280" y="2017800"/>
            <a:ext cx="740880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razporejanje iz postavk ministrstev na postavke OU če stvari ne tečejo (korekcije, neustrezna dinamika, nedoseganje ciljev…) – brez soglasja posredniškega organ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razporejanje iz postavk ministrstev na postavke OU v okviru evidenčnega projekta v primeru nižje vrednosti od predviden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držanje izvajanja (sum goljufije, neizvajanje korekcij, terjatev) do 3 mesece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razporejanje in zadržanje izvaj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 txBox="1"/>
          <p:nvPr/>
        </p:nvSpPr>
        <p:spPr>
          <a:xfrm>
            <a:off x="415440" y="2048040"/>
            <a:ext cx="740916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Le še zahtevek za izplačilo iz proračuna (ZZI), ni več zahtevka za povračilo (ZZP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i over-commitment-ov, pač pa v okviru „integrale“ več projektov, ki v celoti sledijo EU pravilom in lahko takoj zamenjajo problematične (naknadna dodelitev kohezijskih sredste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U bo določil standardne člene pogodbe o sofinanciranju za posamezne vrste operacij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e novos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 txBox="1"/>
          <p:nvPr/>
        </p:nvSpPr>
        <p:spPr>
          <a:xfrm>
            <a:off x="301680" y="236016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verjanje „prenesenih nalog“ s strani O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bveznost izvajanja ukrepov (finančnih popravkov) v skladu s končnimi priporočili in ugotovitvami OU in nadzornih organov (SI in EU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e novos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 txBox="1"/>
          <p:nvPr/>
        </p:nvSpPr>
        <p:spPr>
          <a:xfrm>
            <a:off x="301320" y="229356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ov informacijski sistem (e-MA), z novimi možnostmi in vzvodi za planiranje in upravljanje (npr. tudi za sledenje predvideni dinamiki preko I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elika povezanost z MFERA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hodna rešitev v letu 2015 (ISARR-2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dpogoj za uspešno upravljanj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 txBox="1"/>
          <p:nvPr/>
        </p:nvSpPr>
        <p:spPr>
          <a:xfrm>
            <a:off x="290520" y="207288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kon o izvrševanju proračuna Republike Slovenije (kasneje tudi Zakon o javnih financah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redba o koriščenju sredstev evropske kohezijske politike v Republiki Sloveniji v programskem obdobju 2014–2020 za cilj "naložbe za rast in delovna mesta„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zvedbeni akt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rije sklopi nove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 txBox="1"/>
          <p:nvPr/>
        </p:nvSpPr>
        <p:spPr>
          <a:xfrm>
            <a:off x="255600" y="13028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o OU za pripravo Izvedbenega načrta in Predloga k izvedbenemu načrtu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finančno upravljanje  in izvajanja evropske kohezijske politike v programskem obdobju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o OU o izpolnjevanju pogojev za imenovanje posredniškega organ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o upravičenih stroških za sredstva evropske kohezijske politike za programsko obdobje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za načrtovanje, spremljanje, poročanje </a:t>
            </a: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in vrednotenje </a:t>
            </a: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izvajanja kohezijske politike v programskem obdobju 2014 – 2020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izvajanje preverjanj po 125. členu Uredbe (EU) št. 1303/2013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izvajanje tehnične podpore evropske kohezijske politike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za informiranje in obveščanje javnosti o kohezijskem in strukturnih skladih v programskem obdobju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spremljanje izvajanja OP z informacijskim sistemom OU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o OU za poročanje in spremljanje nepravilnosti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ak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 txBox="1"/>
          <p:nvPr/>
        </p:nvSpPr>
        <p:spPr>
          <a:xfrm>
            <a:off x="290520" y="2144880"/>
            <a:ext cx="82296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erila za izbor operacij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stanovitev Odbora za spremljanje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stanovitev strokovnih skupi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pis sistema upravljanja in nadzora – OS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ročnik OU za izvajanje EKP 2014-2020 (konec maj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Drugi ak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 txBox="1"/>
          <p:nvPr/>
        </p:nvSpPr>
        <p:spPr>
          <a:xfrm>
            <a:off x="322200" y="212688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dnje  leto programskega obdobja 2007-201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Leto vzpostavitve sistema za programsko obdobje 2014-2020 (2023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Dopolnitev sistema v drugi polovici le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sebnost proračuna 2015 – vsa sredstva „nove“ kohezije na proračunskih postavkah SV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Leto 2015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 txBox="1"/>
          <p:nvPr/>
        </p:nvSpPr>
        <p:spPr>
          <a:xfrm>
            <a:off x="301680" y="1739520"/>
            <a:ext cx="7408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vi krog usklajevanja zaključ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prava Izvedbenega načrta , ki predstavlja operacionalizacijo OP je v teku, predvidoma bo sprejet v april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va seja Odbora za spremljan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naslednjem tednu predlog nove ureditve (ZIPRS in uredba)  in pričetek drugega kroga usklajevanj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IPRS in uredba aprila na vlad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Akreditacija posredniških organov (april-junij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signation procedure</a:t>
            </a: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“, ki ga bo izvedel UNP (junij – oktober), kot pogoj za črpanje sredstev iz Bruslj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Kako naprej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9760" y="2322360"/>
            <a:ext cx="79851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Hvala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 txBox="1"/>
          <p:nvPr/>
        </p:nvSpPr>
        <p:spPr>
          <a:xfrm>
            <a:off x="269640" y="180468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U mora dejansko upravljati s kohezijskimi sredstv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ožnost prelivanja denarja med resorji, konkurenca med program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Kakovost projekt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100% črpanje sredste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enostavitve, zmanjšanje upravnih br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dprava sedanjih težav (npr. težave na relaciji ISARR – MFERAC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emeljna vodila pri pripravi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 txBox="1"/>
          <p:nvPr/>
        </p:nvSpPr>
        <p:spPr>
          <a:xfrm>
            <a:off x="196560" y="199188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poštevati spremembe, ki jih je prinesla nova EU uredba in kar smo že vgradili predvsem v PS (občasno problem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uredbi določiti samo nujne specifike slovenske ureditve, drugače neposredna uporaba EU uredb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e ponavljati določb iz drugih akt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čim večji meri poenotiti izvajanje proračuna za integralna in kohezijska sredstva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  <a:ea typeface="Tahoma"/>
              </a:rPr>
              <a:t>„</a:t>
            </a:r>
            <a:r>
              <a:rPr b="0" lang="sl-SI" sz="2600" spc="-1" strike="noStrike">
                <a:solidFill>
                  <a:srgbClr val="000000"/>
                </a:solidFill>
                <a:latin typeface="Calibri"/>
                <a:ea typeface="Tahoma"/>
              </a:rPr>
              <a:t>Use it or lose it“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emeljna vodila pri pripravi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Content Placeholder 2" descr=""/>
          <p:cNvPicPr/>
          <p:nvPr/>
        </p:nvPicPr>
        <p:blipFill>
          <a:blip r:embed="rId1"/>
          <a:stretch/>
        </p:blipFill>
        <p:spPr>
          <a:xfrm>
            <a:off x="1682640" y="2676600"/>
            <a:ext cx="7461360" cy="3449520"/>
          </a:xfrm>
          <a:prstGeom prst="rect">
            <a:avLst/>
          </a:prstGeom>
          <a:ln w="0">
            <a:noFill/>
          </a:ln>
        </p:spPr>
      </p:pic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Cilj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7" name="Straight Connector 4"/>
          <p:cNvSpPr/>
          <p:nvPr/>
        </p:nvSpPr>
        <p:spPr>
          <a:xfrm>
            <a:off x="971640" y="2060640"/>
            <a:ext cx="0" cy="3816360"/>
          </a:xfrm>
          <a:prstGeom prst="line">
            <a:avLst/>
          </a:prstGeom>
          <a:ln w="572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traight Connector 6"/>
          <p:cNvSpPr/>
          <p:nvPr/>
        </p:nvSpPr>
        <p:spPr>
          <a:xfrm>
            <a:off x="971640" y="5877000"/>
            <a:ext cx="7200720" cy="0"/>
          </a:xfrm>
          <a:prstGeom prst="line">
            <a:avLst/>
          </a:prstGeom>
          <a:ln w="572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TextBox 8"/>
          <p:cNvSpPr/>
          <p:nvPr/>
        </p:nvSpPr>
        <p:spPr>
          <a:xfrm>
            <a:off x="3564360" y="5970960"/>
            <a:ext cx="233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Arial"/>
              </a:rPr>
              <a:t>programsko obdob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Freeform 11"/>
          <p:cNvSpPr/>
          <p:nvPr/>
        </p:nvSpPr>
        <p:spPr>
          <a:xfrm>
            <a:off x="1741320" y="1647720"/>
            <a:ext cx="6296040" cy="4219560"/>
          </a:xfrm>
          <a:custGeom>
            <a:avLst/>
            <a:gdLst/>
            <a:ahLst/>
            <a:rect l="l" t="t" r="r" b="b"/>
            <a:pathLst>
              <a:path w="6296047" h="4218920">
                <a:moveTo>
                  <a:pt x="0" y="4218920"/>
                </a:moveTo>
                <a:cubicBezTo>
                  <a:pt x="229507" y="4031141"/>
                  <a:pt x="459015" y="3843363"/>
                  <a:pt x="849086" y="3685520"/>
                </a:cubicBezTo>
                <a:cubicBezTo>
                  <a:pt x="1239158" y="3527677"/>
                  <a:pt x="1868715" y="3380720"/>
                  <a:pt x="2340429" y="3271863"/>
                </a:cubicBezTo>
                <a:cubicBezTo>
                  <a:pt x="2812143" y="3163006"/>
                  <a:pt x="3287486" y="3157563"/>
                  <a:pt x="3679372" y="3032377"/>
                </a:cubicBezTo>
                <a:cubicBezTo>
                  <a:pt x="4071258" y="2907191"/>
                  <a:pt x="4287157" y="2974320"/>
                  <a:pt x="4691743" y="2520749"/>
                </a:cubicBezTo>
                <a:cubicBezTo>
                  <a:pt x="5096329" y="2067178"/>
                  <a:pt x="5842000" y="728235"/>
                  <a:pt x="6106886" y="310949"/>
                </a:cubicBezTo>
                <a:cubicBezTo>
                  <a:pt x="6371772" y="-106337"/>
                  <a:pt x="6281057" y="17034"/>
                  <a:pt x="6281057" y="17034"/>
                </a:cubicBezTo>
                <a:lnTo>
                  <a:pt x="6281057" y="17034"/>
                </a:lnTo>
              </a:path>
            </a:pathLst>
          </a:cu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Freeform 13"/>
          <p:cNvSpPr/>
          <p:nvPr/>
        </p:nvSpPr>
        <p:spPr>
          <a:xfrm>
            <a:off x="1709640" y="3298680"/>
            <a:ext cx="6443640" cy="2557440"/>
          </a:xfrm>
          <a:custGeom>
            <a:avLst/>
            <a:gdLst/>
            <a:ahLst/>
            <a:rect l="l" t="t" r="r" b="b"/>
            <a:pathLst>
              <a:path w="6444801" h="2557369">
                <a:moveTo>
                  <a:pt x="0" y="2557369"/>
                </a:moveTo>
                <a:cubicBezTo>
                  <a:pt x="93436" y="2352355"/>
                  <a:pt x="186872" y="2147341"/>
                  <a:pt x="391886" y="1860684"/>
                </a:cubicBezTo>
                <a:cubicBezTo>
                  <a:pt x="596900" y="1574027"/>
                  <a:pt x="923472" y="1127712"/>
                  <a:pt x="1230086" y="837426"/>
                </a:cubicBezTo>
                <a:cubicBezTo>
                  <a:pt x="1536700" y="547140"/>
                  <a:pt x="1895929" y="256855"/>
                  <a:pt x="2231572" y="118969"/>
                </a:cubicBezTo>
                <a:cubicBezTo>
                  <a:pt x="2567215" y="-18917"/>
                  <a:pt x="2953657" y="24626"/>
                  <a:pt x="3243943" y="10112"/>
                </a:cubicBezTo>
                <a:cubicBezTo>
                  <a:pt x="3534229" y="-4402"/>
                  <a:pt x="3735615" y="-8030"/>
                  <a:pt x="3973286" y="31884"/>
                </a:cubicBezTo>
                <a:cubicBezTo>
                  <a:pt x="4210957" y="71798"/>
                  <a:pt x="4443186" y="55469"/>
                  <a:pt x="4669972" y="249598"/>
                </a:cubicBezTo>
                <a:cubicBezTo>
                  <a:pt x="4896758" y="443726"/>
                  <a:pt x="5156200" y="873712"/>
                  <a:pt x="5334000" y="1196655"/>
                </a:cubicBezTo>
                <a:cubicBezTo>
                  <a:pt x="5511800" y="1519598"/>
                  <a:pt x="5560786" y="1971355"/>
                  <a:pt x="5736772" y="2187255"/>
                </a:cubicBezTo>
                <a:cubicBezTo>
                  <a:pt x="5912758" y="2403155"/>
                  <a:pt x="6277428" y="2439441"/>
                  <a:pt x="6389914" y="2492055"/>
                </a:cubicBezTo>
                <a:cubicBezTo>
                  <a:pt x="6502400" y="2544669"/>
                  <a:pt x="6406243" y="2497498"/>
                  <a:pt x="6411686" y="2502941"/>
                </a:cubicBezTo>
                <a:cubicBezTo>
                  <a:pt x="6417129" y="2508384"/>
                  <a:pt x="6419850" y="2516548"/>
                  <a:pt x="6422572" y="2524712"/>
                </a:cubicBezTo>
              </a:path>
            </a:pathLst>
          </a:custGeom>
          <a:noFill/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TextBox 1"/>
          <p:cNvSpPr/>
          <p:nvPr/>
        </p:nvSpPr>
        <p:spPr>
          <a:xfrm>
            <a:off x="6688080" y="176688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2007-201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TextBox 9"/>
          <p:cNvSpPr/>
          <p:nvPr/>
        </p:nvSpPr>
        <p:spPr>
          <a:xfrm>
            <a:off x="2556000" y="329868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2014-202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 txBox="1"/>
          <p:nvPr/>
        </p:nvSpPr>
        <p:spPr>
          <a:xfrm>
            <a:off x="186840" y="1844280"/>
            <a:ext cx="740916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rgan upravljanja (SVR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rgan za potrjevanje (MF-Sektor za upravljanje s sredstvi EU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Revizijski organ (UNP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sredniški organi (ministrstva – skoraj vsa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zvajalski organi (pravna oseba javnega ali zasebnega prav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pravičenec (izvajalec, organ ali podjetje, javno ali zasebno) – pri FI organ, ki izvaja F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Udeleženc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 txBox="1"/>
          <p:nvPr/>
        </p:nvSpPr>
        <p:spPr>
          <a:xfrm>
            <a:off x="207720" y="182520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dbor za spremljanje (nadzorni odbo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Strokovne skupin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i udeleženc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 txBox="1"/>
          <p:nvPr/>
        </p:nvSpPr>
        <p:spPr>
          <a:xfrm>
            <a:off x="20808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En načrt izvajanja, ki je sprejet pred proračunsko razprav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snova za razporeditev sredstev na finančne načr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pravi ga OU na osnovi predlogov posredniških organ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soja predlogov s strani strokovnih skupi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Dva dela načrta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ndikativni prikaz operacij za celotno obdob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drobnejši prikaz za dve leti, kjer je potrebno pa tudi za daljše obdob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načr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 txBox="1"/>
          <p:nvPr/>
        </p:nvSpPr>
        <p:spPr>
          <a:xfrm>
            <a:off x="331920" y="2019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Redno noveliranje dokumen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2015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arec-apri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julij-septemb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dhodna seznanitev vseh deležnik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načr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 txBox="1"/>
          <p:nvPr/>
        </p:nvSpPr>
        <p:spPr>
          <a:xfrm>
            <a:off x="228600" y="206028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resoja vlog večjih vrednosti tudi s strani neodvisnih strokovnjakov (</a:t>
            </a:r>
            <a:r>
              <a:rPr b="0" i="1" lang="sl-SI" sz="2800" spc="-1" strike="noStrike">
                <a:solidFill>
                  <a:srgbClr val="000000"/>
                </a:solidFill>
                <a:latin typeface="Calibri"/>
              </a:rPr>
              <a:t>oziroma delovne skupine vlade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Dodelitev sredstev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Andrej</cp:lastModifiedBy>
  <dcterms:modified xsi:type="dcterms:W3CDTF">2015-03-24T20:17:56Z</dcterms:modified>
  <cp:revision>21</cp:revision>
  <dc:subject/>
  <dc:title>PowerPoint Presentation</dc:title>
</cp:coreProperties>
</file>